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287-A8E4-421E-B346-B2C93A8A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100-5185-4B6E-808A-F9CB803C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876-96DB-42EB-9EC5-4D7471A8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C8F-990C-4319-956B-F3824F6A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F33-096C-47D0-9D07-59FFCE26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904-1F35-448E-A84D-7B9AC911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C76-9222-4101-B22D-5C43408D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1C6-795E-43A3-8C16-AED941D9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85B-8AF6-4A42-A32C-12930FCC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0A4-0DE8-42B0-915D-40BCA253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A54-002E-4CE9-A688-08D99E5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43B-06F0-49BD-A5B9-CC3022E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55A3-B7CF-419D-969D-9F3A6C388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: The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bruary 5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so far, always 1 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ly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cept that eac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is mapped to a specific character in the ASCII character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a = ‘A’; // Use single-qu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a = 65;  // Exactly the same as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a + 1;    // Now a holds ‘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is not important, accepts only two value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ly recent addition to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a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b = (num &gt; 10); // b will be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/C++, arrays are always static and must have an initial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arrays using []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0-based indices (from 0 to n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yArray[10];    // Declare array of 10 inte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Array[0] = 5;     // Put value in firs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myArray[0]; // Get first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Array[10] = 8;    // BAD! Index out of ran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String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/C++, a string is a null-terminated array of charact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name[] = “Tony”; // String is 4 characters l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m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7560" y="5257800"/>
            <a:ext cx="30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92480" y="5257800"/>
            <a:ext cx="30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7400" y="5257800"/>
            <a:ext cx="30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01960" y="5257800"/>
            <a:ext cx="30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6880" y="5257800"/>
            <a:ext cx="30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8920" y="46483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6680" y="46483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50292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81280" y="50292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3080" y="59436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-terminator: ‘\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428640" y="56383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Ide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rs: variable names, function names, class nam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nam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-numeric and underscore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start with 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be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n_old_style_var; // 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version5;        // 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_rightOn;        // Valid (starts with undersc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56Hello;          // Invalid! Starts with a num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ittl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eloped in early 1970s as a system implementation language for Unix. It was developed by Dennis M. Ritchie at Bell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developed in 1983 by Bjarne Stroustrup, also at Bell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 Labs split into AT&amp;T Labs and Bell Lucent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… C++… What’s the di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is an extension of C – 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lly backwards compatible with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s a “procedural”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is an “object-oriented”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C++ allows for code that is easier to read, maintain, and 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Hello World!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main()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() is a function available from the stdio library to print to standar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Compile and Run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Visual C++ 6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oject: Win32 Console 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file called “hello.cp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“Hello World!”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, two commenting styles avail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// to comment to the end of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/* … */ to comment a block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: Always use // to comment your code, and keep /* … */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mporar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ent out a block of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data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(Floating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n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type! Strings are implemented as arrays of characters. More on this l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size of each is system-dependent. On Intel Pentiums: short = 2 bytes, int = 4 bytes, long = 4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default, but you can specif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ig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L | 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30, 40l, 9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ong d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Pentium sizes: float = 4 bytes,    double = 8 bytes, long double = 8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its.Dig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o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f | F | l | L]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onen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 | E) [+ | -]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2.34, 3.5f, 0.5L, 4e5, 5.6e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1:49:56Z</dcterms:created>
  <dc:creator>Home</dc:creator>
  <dc:description/>
  <dc:language>en-US</dc:language>
  <cp:lastModifiedBy>Antonio Maiorano</cp:lastModifiedBy>
  <dcterms:modified xsi:type="dcterms:W3CDTF">2002-02-25T16:56:28Z</dcterms:modified>
  <cp:revision>20</cp:revision>
  <dc:subject/>
  <dc:title>C/C++ Tutorial</dc:title>
</cp:coreProperties>
</file>